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1463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D7D2F6-2D10-480F-AF1D-5852E1EF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54907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75682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41598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75682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598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54907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75682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333512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333512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87320"/>
            <a:ext cx="9131400" cy="1049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31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3320" y="60480"/>
            <a:ext cx="89089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00" y="903240"/>
            <a:ext cx="8943840" cy="9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landscape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scap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panels in portrait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