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92024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F96168-8CA7-4B10-BF8C-26298CDDE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864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864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97034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688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0512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64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82688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10512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4864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4864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4864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7034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864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864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7034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864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705720" y="11353680"/>
            <a:ext cx="1371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534520" y="11353680"/>
            <a:ext cx="2133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-5384880"/>
            <a:ext cx="6845400" cy="150620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72200" y="-6172200"/>
            <a:ext cx="6845400" cy="83808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273720" y="-6111720"/>
            <a:ext cx="66549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EADING in 48 pt Ari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240600" y="-5883120"/>
            <a:ext cx="6715080" cy="127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text is in 30 pt Times New Roman.</a:t>
            </a:r>
            <a:br>
              <a:rPr sz="3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may seem too big, but it isn’t!  Put details in 20 pt, like this.  But no smal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lor and style of this panel are examples only.  Do something different for your poster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nels in this template are two US-letter sheets in depth (in portrait orientation), in case you have any panels that need to run into the second shee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-drag at the bottom of the colored box to make it match the height of the text for each pan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make the panel up to 0.5” wider to fill the sheet of paper closer to the edges when printed. </a:t>
            </a:r>
            <a:br>
              <a:rPr sz="3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ch changes vi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/Slide Setup..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menu bar. Everthing in the document gets stretched by this operation, so cut this text, change the slide size, then paste the text back in. Print a page to make sure you get it right before you start on your po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re you set your printer to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rai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m the edges of the printed page to make a uniform border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inat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trim, but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join any pieces toge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other template for slides in landscape orientation, or make your own document from scrat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an St Clair Gibson</cp:lastModifiedBy>
  <cp:revision>0</cp:revision>
  <dc:subject/>
  <dc:title>No Slide Title</dc:title>
</cp:coreProperties>
</file>